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5C4E-D023-4A83-9157-F443821D1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9A3A-DD44-49A2-A0D0-262A2D6239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30C6-8A01-434E-BB8D-47331DC388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832D-6662-48AD-B0E0-E565C39D85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8D72-9FAC-4F47-B609-5688BACAFA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23BB-8482-41F4-AE2C-3E77177A70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4AE-6A1C-41A9-B6B1-5E910A94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87C-3D69-4BB1-B7DA-66818AD2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7FC-1962-4291-8267-027916C6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393-EEBE-4AE2-BF19-89CAE5B4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24EE2-CFA8-4E8A-AB2C-59C58B77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E77DD-86FB-4F8D-8D3C-400CFD6B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16593-96CC-4048-AF1C-D724EF43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078A8-E497-4274-8306-D3640773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F6FD5-4B85-4A49-8FF6-806BF94A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2D207-F619-46C0-8A97-DA0B4246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0B4F0-5F74-468F-821A-7B7B18AA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4CC-E794-4D5C-ADB8-050C359A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F951F-F674-48F7-A38A-C499F9E5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644EA-1278-480C-B136-F09BFE51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22487-ECD1-4D7C-B3AE-5A7001AF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EAB51-7F50-4E61-B92D-30B4BECD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6A777-B1C5-4802-ADEF-B3E99DDB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C0E-0B0E-4C62-A088-CB33A06B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38A-455B-4213-9B36-F08A52D1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E85-4BF4-41BF-97BC-CF4B8B83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1DD4-E7DC-4D6F-AFBC-E4B3F43C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EF6-50EA-4058-9EEC-3862CF55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C09-B004-42FE-991F-665D7CA3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5B8-EC36-438D-B6EC-51E8A439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4F2B-56D6-4683-9F3C-D5E8F639D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6B15-0F79-48CE-BDD7-8BAFD97CD8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age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rief Overview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YMBO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n object, person, place or experience that means more than what it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6" descr="MCj03871600000[1]"/>
          <p:cNvPicPr/>
          <p:nvPr/>
        </p:nvPicPr>
        <p:blipFill>
          <a:blip r:embed="rId1"/>
          <a:stretch/>
        </p:blipFill>
        <p:spPr>
          <a:xfrm>
            <a:off x="2666880" y="32004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IMAGE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e “word pictures” that writers create to help evoke an emotional respo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riters u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rebuchet MS"/>
              </a:rPr>
              <a:t>sensory detail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, or descriptions that appeal to one or more of the five senses: sight, hearing, touch, taste, and smell.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7" name="Group 14"/>
          <p:cNvGrpSpPr/>
          <p:nvPr/>
        </p:nvGrpSpPr>
        <p:grpSpPr>
          <a:xfrm>
            <a:off x="4736520" y="914400"/>
            <a:ext cx="4091400" cy="5638680"/>
            <a:chOff x="4736520" y="914400"/>
            <a:chExt cx="4091400" cy="5638680"/>
          </a:xfrm>
        </p:grpSpPr>
        <p:pic>
          <p:nvPicPr>
            <p:cNvPr id="98" name="Picture 4" descr="MCHM00279_0000[1]"/>
            <p:cNvPicPr/>
            <p:nvPr/>
          </p:nvPicPr>
          <p:blipFill>
            <a:blip r:embed="rId1"/>
            <a:stretch/>
          </p:blipFill>
          <p:spPr>
            <a:xfrm>
              <a:off x="4876920" y="914400"/>
              <a:ext cx="182880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MCHM00374_0000[1]"/>
            <p:cNvPicPr/>
            <p:nvPr/>
          </p:nvPicPr>
          <p:blipFill>
            <a:blip r:embed="rId2"/>
            <a:stretch/>
          </p:blipFill>
          <p:spPr>
            <a:xfrm>
              <a:off x="6934320" y="1143000"/>
              <a:ext cx="1635120" cy="214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0" descr="MCj01975880000[1]"/>
            <p:cNvPicPr/>
            <p:nvPr/>
          </p:nvPicPr>
          <p:blipFill>
            <a:blip r:embed="rId3"/>
            <a:stretch/>
          </p:blipFill>
          <p:spPr>
            <a:xfrm rot="1860000">
              <a:off x="4800240" y="2971440"/>
              <a:ext cx="3689280" cy="12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2" descr="MCPE02758_0000[1]"/>
            <p:cNvPicPr/>
            <p:nvPr/>
          </p:nvPicPr>
          <p:blipFill>
            <a:blip r:embed="rId4"/>
            <a:stretch/>
          </p:blipFill>
          <p:spPr>
            <a:xfrm>
              <a:off x="4876920" y="4572000"/>
              <a:ext cx="1981080" cy="17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3" descr="MCHM00388_0000[1]"/>
            <p:cNvPicPr/>
            <p:nvPr/>
          </p:nvPicPr>
          <p:blipFill>
            <a:blip r:embed="rId5"/>
            <a:stretch/>
          </p:blipFill>
          <p:spPr>
            <a:xfrm>
              <a:off x="7238880" y="4952880"/>
              <a:ext cx="158904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IMI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 figure of speech us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like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a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to compare seemingly unlike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The corn was as high as an elephant’s ey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533520" y="3657600"/>
            <a:ext cx="4832280" cy="2809800"/>
            <a:chOff x="533520" y="3657600"/>
            <a:chExt cx="4832280" cy="2809800"/>
          </a:xfrm>
        </p:grpSpPr>
        <p:pic>
          <p:nvPicPr>
            <p:cNvPr id="106" name="Picture 4" descr="MCj02791640000[1]"/>
            <p:cNvPicPr/>
            <p:nvPr/>
          </p:nvPicPr>
          <p:blipFill>
            <a:blip r:embed="rId2"/>
            <a:stretch/>
          </p:blipFill>
          <p:spPr>
            <a:xfrm>
              <a:off x="533520" y="3657600"/>
              <a:ext cx="2125440" cy="28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5" descr="MCj03013020000[1]"/>
            <p:cNvPicPr/>
            <p:nvPr/>
          </p:nvPicPr>
          <p:blipFill>
            <a:blip r:embed="rId3"/>
            <a:stretch/>
          </p:blipFill>
          <p:spPr>
            <a:xfrm>
              <a:off x="2867040" y="3733920"/>
              <a:ext cx="2498760" cy="264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7"/>
          <p:cNvSpPr/>
          <p:nvPr/>
        </p:nvSpPr>
        <p:spPr>
          <a:xfrm>
            <a:off x="5943600" y="3809880"/>
            <a:ext cx="2590920" cy="2654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mean really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o corn and 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lephant ha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YTHING in comm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METAPH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mpares two or more things NOT using “like” or “as”.  In contrast to a simile, a metapho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rebuchet MS"/>
              </a:rPr>
              <a:t>implie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the comparison instead of stating it direc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He’s a bear when he’s angry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MCj03826100000[1]"/>
          <p:cNvPicPr/>
          <p:nvPr/>
        </p:nvPicPr>
        <p:blipFill>
          <a:blip r:embed="rId1"/>
          <a:stretch/>
        </p:blipFill>
        <p:spPr>
          <a:xfrm>
            <a:off x="5562720" y="3657600"/>
            <a:ext cx="2857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ETAPHORS do NOT use “like” or “as”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*Let’s practice with #1-6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printer is a(n) _______________ when she ru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printers are _____________ when they r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t man is such a(n) ________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400 pound man is fatter than a(n) __________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 to your neighbor and create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taph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sed upon their appearance or personality (NO NEGATIVE COMMENT, PLEAS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 to yourself and create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taph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sed upon your appearance or persona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ERSONIF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 figure of speech in which an animal, object, force of nature, or idea is given human qualities or characteris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-The shadow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rebuchet MS"/>
              </a:rPr>
              <a:t>crept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alo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hallwa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-My shadow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rebuchet MS"/>
              </a:rPr>
              <a:t>followed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l the way hom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-My dog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rebuchet MS"/>
              </a:rPr>
              <a:t>begged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me to fe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hi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-The tree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rebuchet MS"/>
              </a:rPr>
              <a:t>danced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in the win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MCj01977150000[1]"/>
          <p:cNvPicPr/>
          <p:nvPr/>
        </p:nvPicPr>
        <p:blipFill>
          <a:blip r:embed="rId1"/>
          <a:stretch/>
        </p:blipFill>
        <p:spPr>
          <a:xfrm>
            <a:off x="5181480" y="3276720"/>
            <a:ext cx="37674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21:09:41Z</dcterms:created>
  <dc:creator>April Baker</dc:creator>
  <dc:description/>
  <dc:language>en-US</dc:language>
  <cp:lastModifiedBy>Mcadwell</cp:lastModifiedBy>
  <dcterms:modified xsi:type="dcterms:W3CDTF">2011-10-24T23:21:25Z</dcterms:modified>
  <cp:revision>19</cp:revision>
  <dc:subject/>
  <dc:title>Literary Terms</dc:title>
</cp:coreProperties>
</file>